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DDA-EE49-4634-9671-0DA3CCB5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BF6-993F-4051-B116-E7652476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CAB-0C8D-4AA0-99E9-3DFBDB61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7D4-1B62-435A-937B-6E84EC0F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A26-1F87-4E1A-9054-B9AC97F5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461-C249-428F-8551-21A83274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E28-1E1E-4EA1-8D00-819AD160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0B8-09EE-489C-86AD-FBAE83D2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1E0-B539-4140-9E92-00F5A330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709-1096-4E96-B0EB-855A09AF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FE5-2465-464C-8055-7E3DB93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4A1-B24F-449F-B8F0-9E16E5BE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4408-9FFD-44F6-AC92-54A0B78B9F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b5yTanmi7A&amp;feature=related" TargetMode="External"/><Relationship Id="rId2" Type="http://schemas.openxmlformats.org/officeDocument/2006/relationships/hyperlink" Target="http://www.youtube.com/watch?v=Xb5yTanmi7A&amp;feature=related" TargetMode="External"/><Relationship Id="rId3" Type="http://schemas.openxmlformats.org/officeDocument/2006/relationships/hyperlink" Target="http://www.youtube.com/watch?v=Xb5yTanmi7A&amp;feature=related" TargetMode="External"/><Relationship Id="rId4" Type="http://schemas.openxmlformats.org/officeDocument/2006/relationships/hyperlink" Target="http://www.youtube.com/watch?v=bHMQEggEG4k&amp;feature=related" TargetMode="External"/><Relationship Id="rId5" Type="http://schemas.openxmlformats.org/officeDocument/2006/relationships/hyperlink" Target="http://www.youtube.com/watch?v=bHMQEggEG4k&amp;feature=related" TargetMode="External"/><Relationship Id="rId6" Type="http://schemas.openxmlformats.org/officeDocument/2006/relationships/hyperlink" Target="http://www.youtube.com/watch?v=bHMQEggEG4k&amp;feature=related" TargetMode="External"/><Relationship Id="rId7" Type="http://schemas.openxmlformats.org/officeDocument/2006/relationships/hyperlink" Target="http://www.youtube.com/watch?v=BoE5zaAjr8Q&amp;feature=related" TargetMode="External"/><Relationship Id="rId8" Type="http://schemas.openxmlformats.org/officeDocument/2006/relationships/hyperlink" Target="http://www.youtube.com/watch?v=BoE5zaAjr8Q&amp;feature=related" TargetMode="External"/><Relationship Id="rId9" Type="http://schemas.openxmlformats.org/officeDocument/2006/relationships/hyperlink" Target="http://www.youtube.com/watch?v=BoE5zaAjr8Q&amp;feature=related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s, Ethos and Pat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ajority of arguments in the popular press are heavily dependent on pathetic appeals.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eals to pathos touch a nerve and compel people to not only listen, but to also take the next step and act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hos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8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advertisement appeal to emotion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3772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os, Logos, Path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thical appeal &amp; speaker’s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Create your own appeal about why students should or should not be allowed to use their I-Pods in the classro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ogical appeal/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Create your own appeal about why students should or should not be allowed to use their I-Pods in the classro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motional app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Create your own appeal about why students should or should not be allowed to use their I-Pods in the classro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ypes of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220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Personal Experience (anecdotes/sto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tatistic/Reason/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llusion (historical refer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Authority and or quotes ( expert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Examples and or qu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Analogy (comparison…like a long sim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Hypothetical Situ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description of someth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Commentary (comments from author or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vidence Label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TNE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5943600" cy="5776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1066680"/>
            <a:ext cx="31244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COPY ON LEFT &amp; RESPOND ON THE R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 do Americans feel about dr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24600" y="304920"/>
            <a:ext cx="4019400" cy="594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" y="533520"/>
            <a:ext cx="4648320" cy="57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I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PY ON LEFT &amp; RESPOND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ho is the audience?  To what do these appeal?  What type of argument is being u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lid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lide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lide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lide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lide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3870360" cy="5943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304920"/>
            <a:ext cx="4038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801960" cy="5791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380880"/>
            <a:ext cx="358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enever you read an argument you must ask yourself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Is this persuasive? And if so, to whom?"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0"/>
            <a:ext cx="3352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122720" y="0"/>
            <a:ext cx="5021280" cy="6629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45720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81360" y="0"/>
            <a:ext cx="5462640" cy="662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304920"/>
            <a:ext cx="3505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do we associate with dr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081680" cy="6629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0"/>
            <a:ext cx="4496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happening here?  What emotional impact do these have on the vie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07000" y="228600"/>
            <a:ext cx="3537000" cy="632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1746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happening here?  What emotional impact do these have on the vie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78320" cy="6629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746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a PSA?  Which is more effective (respond after seeing both slide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322520" cy="6095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280" y="174600"/>
            <a:ext cx="4419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a PS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= Public Service Announcement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Which is more effective? Wh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Xb5yTanmi7A&amp;feature=related_x000b_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=bHMQEggEG4k&amp;feature=related_x000b_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=BoE5zaAjr8Q&amp;feature=re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re are several ways to appeal to an audience.  Among them are appealing to 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logos, ethos and pathos. 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53182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se appeals are prevalent in almost all argu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og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Greek word logos is the basis for the English word logic.  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gos refers to any attempt to appeal to the intellect, the general meaning of "logical argument."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day arguments rely heavily on ethos and pathos, but academic arguments rely more on logos: there will be logical chains of reasoning supporting all claims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6324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w of our children breath fresh air in their schools, which are being sprayed, inside and out, with millions of pounds of deadly, nervous system destroying pestic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hat are the details provided in this cla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thos: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hos is related to the English word ethics and refers to the trustworthiness of the speaker/writer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hos is an effective persuasive strategy because when we believe that the speaker does not intend to do us harm, we are more willing to listen to what s/he has to s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judge comments on legal precedent audiences tend to listen because it is the job of a judge to know the nature of past legal cas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os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: George Foreman and his Grill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rtoire: Boxing Champ and a Pr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George Foreman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4572000"/>
            <a:ext cx="19303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762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atho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os is related to the words pathetic, sympathy and empathy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you accept an claim based on how it makes you feel without fully analyzing the rationale behind the claim, you are acting on patho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may be any emotions: love, fear, patriotism, guilt, hate or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1:12:49Z</dcterms:created>
  <dc:creator>Tech Resources</dc:creator>
  <dc:description/>
  <dc:language>en-US</dc:language>
  <cp:lastModifiedBy>Nvasquez</cp:lastModifiedBy>
  <dcterms:modified xsi:type="dcterms:W3CDTF">2010-04-29T18:07:35Z</dcterms:modified>
  <cp:revision>9</cp:revision>
  <dc:subject/>
  <dc:title>Logos, Ethos and Pathos</dc:title>
</cp:coreProperties>
</file>